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6EC3-F94C-452A-89F0-1915E3F1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6E1-CB7F-417C-BAF5-95729443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111-79FC-4DB8-B85E-02ABF745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C08-4EAA-4825-9CCD-3560E4C6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471-63C3-4D9A-9DC2-E4C1920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F22-CF7A-457D-A324-6AEFDDF9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78C-ED56-4B97-9B31-2BDFBA35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2FA-813D-40EB-B63C-87895F08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580-DA2C-47BA-999D-B042015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7EF-41F8-4BF3-A47E-DCC6183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9C8-C289-4DE2-8CD6-DFC1591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BF3-8A27-4053-981D-930575EB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476-D3C0-4828-8A09-D7A18347B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ckbar"/>
              </a:rPr>
              <a:t>Writing Portfolio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ckbar"/>
              </a:rPr>
              <a:t>Reading Portfolio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ckbar"/>
              </a:rPr>
              <a:t>Writing Workshop</a:t>
            </a: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ckbar"/>
              </a:rPr>
              <a:t> Unit of Study pla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00:06:46Z</dcterms:created>
  <dc:creator>Abby Owens</dc:creator>
  <dc:description/>
  <dc:language>en-US</dc:language>
  <cp:lastModifiedBy>Abby Owens</cp:lastModifiedBy>
  <dcterms:modified xsi:type="dcterms:W3CDTF">2010-05-29T01:10:14Z</dcterms:modified>
  <cp:revision>2</cp:revision>
  <dc:subject/>
  <dc:title>Writing Portfolios</dc:title>
</cp:coreProperties>
</file>